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8800" y="771480"/>
            <a:ext cx="5303880" cy="37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98B2-9AE1-447C-BB4A-7F861946B7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1280" y="9374040"/>
            <a:ext cx="29462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A6B1-335A-4C4F-BE7E-CB2BDA0AF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usk-cbc.e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prezifedlap3"/>
          <p:cNvPicPr/>
          <p:nvPr/>
        </p:nvPicPr>
        <p:blipFill>
          <a:blip r:embed="rId2"/>
          <a:stretch/>
        </p:blipFill>
        <p:spPr>
          <a:xfrm>
            <a:off x="31680" y="1440"/>
            <a:ext cx="11284200" cy="7998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rojekt Partneri Jelentés</a:t>
            </a:r>
            <a:br>
              <a:rPr sz="4400"/>
            </a:br>
            <a:r>
              <a:rPr b="1" lang="hu-HU" sz="3600" spc="-1" strike="noStrike">
                <a:solidFill>
                  <a:srgbClr val="006666"/>
                </a:solidFill>
                <a:latin typeface="Arial"/>
              </a:rPr>
              <a:t>készítése és benyújtása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361040"/>
            <a:ext cx="11315880" cy="9792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Partneri szeminár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006666"/>
                </a:solidFill>
                <a:latin typeface="Calibri"/>
              </a:rPr>
              <a:t>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usk_eu_logo_hu_gorbe"/>
          <p:cNvPicPr/>
          <p:nvPr/>
        </p:nvPicPr>
        <p:blipFill>
          <a:blip r:embed="rId4"/>
          <a:stretch/>
        </p:blipFill>
        <p:spPr>
          <a:xfrm>
            <a:off x="257040" y="6377040"/>
            <a:ext cx="30546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iaci ár igazol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552320"/>
            <a:ext cx="108741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0000"/>
          </a:bodyPr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Szokásos piaci ár igazolása: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közbeszerzés (Kbt-nek megfelelő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összehasonlítható áraján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Bruttó 1000 Euro feletti beszerzések esetében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”Nyilatkozat a piaci ár igazolására” című doku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Árajánlatké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3 áraján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3 ajánlatnak rendelkezésre kell áll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összehasonlíthatóak kell legye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mástól és partnertől független ajánlattevőktől kell származ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02920" indent="-411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»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z ajánlatok a megrendelés időpontjához képest nem lehetnek 3 hónapnál régebbie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Bírálati összefoglaló készítése összességében legkedvezőbb ajánlat  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fogadása esetében (tartalmi elvárás útmutató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3400" y="39960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Hiánypótlá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aximum 2 alkalom / partneri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ő alkalom: a hiánypótló levél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küldésének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napjától számított 8 naptári napon belül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zükséges a partnernek benyújtania a hiányzó dokumentumok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ásodik alkalom: legfeljebb 7 naptári nap, de a két esetben max. 15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aptári n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VÁTI Nonprofit Kft. rövidebb hiánypótlási határidőt is szabhat, amennyiben a Hitelesítési Nyilatkozat kiadásának határideje ezt szükségessé tesz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sikertelen hiánypótlás következménye: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PPR elutasítása</a:t>
            </a:r>
            <a:br>
              <a:rPr sz="2400"/>
            </a:b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- elfogadás a nem megfelelő tételek levonása után (a nem elfogadott költségek kizárólag a következő PPR-ben számolhatók el, későbbiben n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elfogad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3400" y="1984320"/>
            <a:ext cx="9617040" cy="4392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z első szintű ellenőrzés (FLC) megállapítja az elszámolható költségek összegé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iállítja a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Hitelesítési nyilatkozatot (Declaration on validation of expenditure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visszaküldi a bélyegzővel hitelesített eredeti számlákat és partner által visszakért eredeti dokumentumok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A partner feladata: </a:t>
            </a:r>
            <a:r>
              <a:rPr b="1" lang="hu-HU" sz="2500" spc="-1" strike="noStrike">
                <a:solidFill>
                  <a:srgbClr val="ff0000"/>
                </a:solidFill>
                <a:latin typeface="Calibri"/>
              </a:rPr>
              <a:t>eljuttatni a Hitelesítési nyilatkozatot a vezető partnernek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9240" y="1263600"/>
            <a:ext cx="9617040" cy="1441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3900"/>
            </a:br>
            <a:br>
              <a:rPr sz="4500"/>
            </a:br>
            <a:r>
              <a:rPr b="1" lang="hu-HU" sz="4500" spc="-1" strike="noStrike">
                <a:solidFill>
                  <a:srgbClr val="006666"/>
                </a:solidFill>
                <a:latin typeface="Arial"/>
              </a:rPr>
              <a:t>Köszönöm figyelmüket!</a:t>
            </a:r>
            <a:br>
              <a:rPr sz="4500"/>
            </a:b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39600"/>
            <a:ext cx="9617040" cy="4537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Fuchs Klaudi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fuchs@vati.hu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Nemzeti kontroller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VÁTI Nonprofit Kft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9240" y="544680"/>
            <a:ext cx="9617040" cy="8632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Az első </a:t>
            </a: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intű</a:t>
            </a:r>
            <a:r>
              <a:rPr b="1" lang="hu-HU" sz="4300" spc="-1" strike="noStrike">
                <a:solidFill>
                  <a:srgbClr val="006666"/>
                </a:solidFill>
                <a:latin typeface="Calibri"/>
              </a:rPr>
              <a:t> ellenőrzés folyamata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ktum 3"/>
          <p:cNvGraphicFramePr/>
          <p:nvPr/>
        </p:nvGraphicFramePr>
        <p:xfrm>
          <a:off x="1554120" y="1263600"/>
          <a:ext cx="8675640" cy="6337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52" name="Objektum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4120" y="1263600"/>
                    <a:ext cx="8675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6000"/>
          </a:bodyPr>
          <a:p>
            <a:pPr marL="397440" indent="-397440">
              <a:spcBef>
                <a:spcPts val="6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i Jelentés (Partner Progress Report, továbbiakban PPR) készítése előtt figyelmesen olvassanak el valamennyi kapcsolódó útmutatót (nyilvánosság, P.I.H, elszámolási útmutató, IMIR Front Office kézikönyv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z aktuális partneri jelentés csomag a program honlapjáról letölthető </a:t>
            </a:r>
            <a:r>
              <a:rPr b="1" lang="hu-HU" sz="2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www.husk-cbc.eu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Minden projekt partner partneri jelentést készít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az adott beszámolási időszakban megvalósított </a:t>
            </a:r>
            <a:r>
              <a:rPr b="0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aját projekt tevékenységeire,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 valamint az adott beszámolási időszakban</a:t>
            </a:r>
            <a:r>
              <a:rPr b="0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 és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ifizetett </a:t>
            </a: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(+15/30 nap)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saját költségeire vonatkozó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400" spc="-1" strike="noStrike">
                <a:solidFill>
                  <a:srgbClr val="006666"/>
                </a:solidFill>
                <a:latin typeface="Calibri"/>
              </a:rPr>
              <a:t>A PR nyelve: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NG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7440" indent="-3974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8480" y="183960"/>
            <a:ext cx="1078236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Partneri Jelentés alapja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7040" y="1120320"/>
            <a:ext cx="10269720" cy="5661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mogatási szerződések (ERFA + hazai társfinanszírozás)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és a pályázat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Application F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FA TSZ: projekt szintű jelentés (LP felelőssé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Társfinanszírozási TSZ: projektrész szintű jelent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számolási időszak: Támogatási Szerződésben rögzített 4 havi ütemezés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artneri jelentés benyújtásának határideje: jelentési időszak végétől számított 15 naptári nap (időközi), ill. 30 nap (záró)   -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beérkezés dátuma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ltségfelmerülés hiányában jelenteni nem, DE értesíteni kell az első szint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llenőrzé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Partneri Jelentés benyújtás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9000"/>
          </a:bodyPr>
          <a:p>
            <a:pPr marL="509040" indent="-509040">
              <a:lnSpc>
                <a:spcPct val="90000"/>
              </a:lnSpc>
              <a:spcBef>
                <a:spcPts val="575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 u="sng">
                <a:solidFill>
                  <a:srgbClr val="006666"/>
                </a:solidFill>
                <a:uFillTx/>
                <a:latin typeface="Calibri"/>
              </a:rPr>
              <a:t>Papír alapon – egy eredeti és egy másolati példány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Erede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Jelentés (PPR-szakmai és pénzügyi):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a Projekt Partner által cégszerűen aláírt, lebélyegzett eredeti dokument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és/vagy azzal egyenértékű számviteli bizonyl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atkozat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(alátámasztó dokumentumo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hatalmazás (amennyiben relevá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hu-HU" sz="2200" spc="-1" strike="noStrike">
                <a:solidFill>
                  <a:srgbClr val="ff0000"/>
                </a:solidFill>
                <a:latin typeface="Calibri"/>
              </a:rPr>
              <a:t>Másolati példán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9360" indent="-45252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zámlákból és azon alátámasztó dokumentumokból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, melyek eredeti példánya a partner tulajdonát képezi és azokat visszakéri (helyszíni ellenőrzés alkalmával az FLC az eredeti dokumentumok meglétét ellenőr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lektronikusan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IMIR 2007-2013 rendszer Front Office felületén keresztü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0" descr="IMG_0089"/>
          <p:cNvPicPr/>
          <p:nvPr/>
        </p:nvPicPr>
        <p:blipFill>
          <a:blip r:embed="rId2"/>
          <a:stretch/>
        </p:blipFill>
        <p:spPr>
          <a:xfrm>
            <a:off x="4002120" y="2992320"/>
            <a:ext cx="2600280" cy="1729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Partneri Jelentés benyújtásának formai követelmény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1154160" indent="-414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Gyűrűs dossziéban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4160" indent="-41436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Cheklistnek megfelelően, költségvetési soronként elválaszt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IMG_0086"/>
          <p:cNvPicPr/>
          <p:nvPr/>
        </p:nvPicPr>
        <p:blipFill>
          <a:blip r:embed="rId3"/>
          <a:stretch/>
        </p:blipFill>
        <p:spPr>
          <a:xfrm>
            <a:off x="1697040" y="3808440"/>
            <a:ext cx="1951200" cy="26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IMG_0088"/>
          <p:cNvPicPr/>
          <p:nvPr/>
        </p:nvPicPr>
        <p:blipFill>
          <a:blip r:embed="rId4"/>
          <a:stretch/>
        </p:blipFill>
        <p:spPr>
          <a:xfrm>
            <a:off x="4794120" y="5008680"/>
            <a:ext cx="2600280" cy="195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IMG_0087"/>
          <p:cNvPicPr/>
          <p:nvPr/>
        </p:nvPicPr>
        <p:blipFill>
          <a:blip r:embed="rId5"/>
          <a:stretch/>
        </p:blipFill>
        <p:spPr>
          <a:xfrm>
            <a:off x="7612200" y="335268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320" y="255240"/>
            <a:ext cx="10226520" cy="108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artneri jelentés tartalm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0320" y="1407600"/>
            <a:ext cx="10126800" cy="5040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jelentés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akmai előrehaladás (saját projektrész tevékenység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6840" indent="-514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énzügyi elszámolás (felmerült és elszámolási időszakban (+15/30 nap) kifizetett költség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lőleg elszámolás összesítő (IMIR 2007-2013 rendszeren keresztü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ÁFA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ámlák/egyenértékű bizonylat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látámasztó dokumentumok – piaci ár igazolá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Checklist – benne partner nyilatkozat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visszakért eredeti dokumentumokró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Nyilatkozat a projektben  résztvevő személyekrő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Amennyiben releváns: módosítások alátámasztó dokumentu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ovábbi segítség számunkra minden kiegészítő nyilatkoz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3400" y="75996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akma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3400" y="1839600"/>
            <a:ext cx="9617040" cy="4653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 projekt kezdésétől a beszámolási időszak végéi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státuszjelentés a tevékenységekről (hol tart)- eltérések bemutat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megvalósított tevékenységek, elért eredmények az adott beszámolási időszakban – partnersé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yilvánosság kapcsán végzett tevékenysége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partnerekkel való együttműködé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felmerült problémá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elvégzett tevékenységek, elért eredmények leír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ndikátoro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közbeszerzésekkel és piaci ár igazolással kapcsolatos információ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a jelentést a Projekt Partner cégszerű aláírásával és bélyegzőjével kell ellát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Pénzügyi jelenté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hez kapcsolódó, az adott beszámolási időszakban felmerült és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 kifizetett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(+15/30 nap)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költségeke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tartalmazz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beszámolási időszak végéig</a:t>
            </a:r>
            <a:r>
              <a:rPr b="1" lang="hu-H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merült, de a jelentés benyújtási határidejéig ki nem fizetett költségekről a következő beszámolási időszakban kell jelente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ő a meghatározott formátumban benyújtan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redeti számlákat (egy másolati példánnyal együtt) szükséges benyújtani, amit hitelesítő bélyegzővel ellátva visszaküldü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látámasztó dokumentumok (pl. szerződések, teljesítés igazolások, „végtermékek”, st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PPR benyújtása előtt javasolt a dokumentáció teljességének ellenőrzése (Checklist alapjá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itöltésében segítség a Front Office kéziköny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54240" cy="514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082080" y="0"/>
            <a:ext cx="2233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cp:lastPrinted>2012-09-25T08:54:08Z</cp:lastPrinted>
  <dcterms:modified xsi:type="dcterms:W3CDTF">2012-10-18T13:51:33Z</dcterms:modified>
  <cp:revision>180</cp:revision>
  <dc:subject/>
  <dc:title>1. dia</dc:title>
</cp:coreProperties>
</file>